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2660-8101-4DB9-AFE9-50661E7B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15F-0ABA-466E-9B80-A534A46E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C9D6-02C8-4DA9-BB40-8EC7D277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6E65-40D9-4CC2-8FFF-03F67DA2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664-99FA-4F0E-9EAF-FA8B331D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A47-4C38-40DD-B59B-8ED82976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40C-7E74-44AE-B9B3-117523FA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FA5-9AA6-47BD-A1BD-FF0B77BD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37B-4A28-46B9-8FA6-440F8565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64C-B2CC-4F06-90D1-DA955EEF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1D3A-215A-4A55-B9BE-DB785510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087-530D-4776-A40B-AF65CB85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C26D-B303-4139-9F1F-C3876D172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73600" y="2657520"/>
            <a:ext cx="1701000" cy="1275480"/>
            <a:chOff x="3873600" y="2657520"/>
            <a:chExt cx="1701000" cy="1275480"/>
          </a:xfrm>
        </p:grpSpPr>
        <p:sp>
          <p:nvSpPr>
            <p:cNvPr id="43" name="_s2079"/>
            <p:cNvSpPr/>
            <p:nvPr/>
          </p:nvSpPr>
          <p:spPr>
            <a:xfrm>
              <a:off x="3873600" y="2657520"/>
              <a:ext cx="1701000" cy="1275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uatema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708660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4419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2819520" y="1981080"/>
            <a:ext cx="12189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066680"/>
            <a:ext cx="190512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haba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438280" y="32000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743200"/>
            <a:ext cx="213336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tema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0"/>
            <a:ext cx="198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nd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334120" y="1981080"/>
            <a:ext cx="14475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1295280"/>
            <a:ext cx="19810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olutionar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77240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2971800"/>
            <a:ext cx="2286000" cy="10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en hel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n in the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533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3962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5334120"/>
            <a:ext cx="2590920" cy="1523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5486400"/>
            <a:ext cx="22096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on export of agricultural products- cocoa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0920" y="42274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6:17:49Z</dcterms:created>
  <dc:creator>teacher</dc:creator>
  <dc:description/>
  <dc:language>en-US</dc:language>
  <cp:lastModifiedBy>teacher</cp:lastModifiedBy>
  <dcterms:modified xsi:type="dcterms:W3CDTF">2010-05-07T16:20:13Z</dcterms:modified>
  <cp:revision>3</cp:revision>
  <dc:subject/>
  <dc:title>Slide 1</dc:title>
</cp:coreProperties>
</file>